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450-6311-4E6C-955A-20D399BF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B232-5E60-48D4-BE5D-6FB58E34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130-B056-4AAC-963D-6585FFA2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77C-A6B8-400E-BFB0-6E9DBE8F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A99-B245-4783-BE02-83F68462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4187-BC9F-4118-BD4B-A11F90FB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AB6-9EC5-4008-89DA-87A07EB48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528-319D-4EAC-8065-AAAFB95A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47C-03D3-4A62-A9D6-04040FF79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0C2-9837-41EB-AB60-C6D8BEAE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A3F5-031D-4274-B339-7ED2A7FB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407C-0B0F-4C0F-ACAE-DF465103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698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6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6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6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rcadia.edu/calculato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carletandgrey_arcadia.png"/>
          <p:cNvPicPr/>
          <p:nvPr/>
        </p:nvPicPr>
        <p:blipFill>
          <a:blip r:embed="rId1"/>
          <a:stretch/>
        </p:blipFill>
        <p:spPr>
          <a:xfrm>
            <a:off x="4660920" y="125244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04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The College Admissions Process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6720" y="1480680"/>
            <a:ext cx="5686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Steps To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One: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Two: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Three: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Four: Orga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81481E-006 L 0.00243 -0.26343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Merit Scholars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116000"/>
            <a:ext cx="867240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stinguished Scholarship and Achievement A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ded based on academic performance, standardized test scores and other factors such as leadership, involvement, and  communit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parate application necessary— All admitted students are automatically reviewed on an individu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ewable from year to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366920" y="1778040"/>
            <a:ext cx="7273800" cy="256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Financial A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712800" y="1165320"/>
            <a:ext cx="809784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8% of full-time undergraduates receive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t our online calculator for an estimate at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Tahoma"/>
                <a:hlinkClick r:id="rId1"/>
              </a:rPr>
              <a:t>www.arcadia.edu/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Grants and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ary to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iority 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Essay</a:t>
            </a:r>
            <a:endParaRPr b="0" lang="en-US" sz="48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8535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your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us why you’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ar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o to colle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knowledge of our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he option to write about anything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rite about your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g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OF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ofread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friend/teacher/family member/counsel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ofrea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25920" y="5227560"/>
            <a:ext cx="4253040" cy="916920"/>
          </a:xfrm>
          <a:prstGeom prst="rect">
            <a:avLst/>
          </a:prstGeom>
          <a:solidFill>
            <a:srgbClr val="d9d9d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okay to use the same essay for every school, but remember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school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Three: Communicate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0348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Regular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Facebook, Twitte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scarletandgrey_arcadia.png"/>
          <p:cNvPicPr/>
          <p:nvPr/>
        </p:nvPicPr>
        <p:blipFill>
          <a:blip r:embed="rId1"/>
          <a:stretch/>
        </p:blipFill>
        <p:spPr>
          <a:xfrm>
            <a:off x="5437080" y="3359160"/>
            <a:ext cx="3270240" cy="3270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417600" y="3959280"/>
            <a:ext cx="5251320" cy="1800360"/>
          </a:xfrm>
          <a:prstGeom prst="rect">
            <a:avLst/>
          </a:prstGeom>
          <a:solidFill>
            <a:srgbClr val="d9d9d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Check in with your guidance counselor and admissions counselor at each University at least once a mon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60360" y="38412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Gateway to Success/ACT 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Callout 10"/>
          <p:cNvSpPr/>
          <p:nvPr/>
        </p:nvSpPr>
        <p:spPr>
          <a:xfrm>
            <a:off x="620640" y="1214280"/>
            <a:ext cx="4527720" cy="179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1203480" y="1471680"/>
            <a:ext cx="3438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Gateway is but a door, and you are the key; unlock yourself and find the person you are meant to become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38040" y="3330720"/>
            <a:ext cx="39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mer ‘10 student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540400" y="1314360"/>
            <a:ext cx="28749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ve, structured and supportive program for students whose academic credentials may not reflect their true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4695840" y="3187800"/>
            <a:ext cx="36939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Equal Opportunity Program (ACT 101)- provides support services for PA undergraduate students whose cultural, economic and educational disadvantages might impede their ability to pursue higher education opportunities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Honors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Callout 2"/>
          <p:cNvSpPr/>
          <p:nvPr/>
        </p:nvSpPr>
        <p:spPr>
          <a:xfrm>
            <a:off x="115920" y="1050840"/>
            <a:ext cx="7142040" cy="2009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Tahoma"/>
              </a:rPr>
              <a:t>"The Honors Program at Arcadia University enriched my learning experience through various courses, cultural events, and traveling opportunities. The professors in the program have designed an atmosphere that teaches a student to think outside of the box.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Callout 5"/>
          <p:cNvSpPr/>
          <p:nvPr/>
        </p:nvSpPr>
        <p:spPr>
          <a:xfrm>
            <a:off x="3133800" y="3006720"/>
            <a:ext cx="5573520" cy="2308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Tahoma"/>
              </a:rPr>
              <a:t>The Honors Program is designed to broaden students’ horizons and to challenge them with a variety of courses they might never get to take as part of their majors or minors while introducing them to a variety of students from all academic disciplines.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24400" y="5413320"/>
            <a:ext cx="31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Meiers, Honors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523960" y="309564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haw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nard MT Condensed"/>
              </a:rPr>
              <a:t>First Year Study Abroad Experience (FYSAE)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73640" y="2075040"/>
            <a:ext cx="436248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elected students are invited to study abroad in London, England or Stirling, Scotland during the fall or spring semester of their freshman y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_MG_0518.jpg"/>
          <p:cNvPicPr/>
          <p:nvPr/>
        </p:nvPicPr>
        <p:blipFill>
          <a:blip r:embed="rId1"/>
          <a:stretch/>
        </p:blipFill>
        <p:spPr>
          <a:xfrm>
            <a:off x="1182600" y="1360440"/>
            <a:ext cx="3032280" cy="4543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84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Four: Organize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Make a list of your potential schools and make a copy for your college counse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y you’re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pecial Programs (If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264960" y="2077920"/>
            <a:ext cx="345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Get ready for the journ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of your life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\\cafall\Photos\Arcadia_Current\Events\2010\Commencement\Undergraduate\Blustein\IMG_0098.jpg"/>
          <p:cNvPicPr/>
          <p:nvPr/>
        </p:nvPicPr>
        <p:blipFill>
          <a:blip r:embed="rId1"/>
          <a:stretch/>
        </p:blipFill>
        <p:spPr>
          <a:xfrm>
            <a:off x="3938760" y="1809720"/>
            <a:ext cx="4997160" cy="3332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4" descr="promiselogo.bmp"/>
          <p:cNvPicPr/>
          <p:nvPr/>
        </p:nvPicPr>
        <p:blipFill>
          <a:blip r:embed="rId2"/>
          <a:stretch/>
        </p:blipFill>
        <p:spPr>
          <a:xfrm>
            <a:off x="932040" y="423720"/>
            <a:ext cx="72403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One: Research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What are you looking for in a schoo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tended maj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Class s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udy abroad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tern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thletic opport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Financial A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6680" y="1898640"/>
            <a:ext cx="4135320" cy="172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39680" y="1455840"/>
            <a:ext cx="2216160" cy="295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802560" y="2446200"/>
            <a:ext cx="2109600" cy="281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617920" y="3946680"/>
            <a:ext cx="393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You have four year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how many miles you cover is up to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romiselogo.bmp"/>
          <p:cNvPicPr/>
          <p:nvPr/>
        </p:nvPicPr>
        <p:blipFill>
          <a:blip r:embed="rId4"/>
          <a:stretch/>
        </p:blipFill>
        <p:spPr>
          <a:xfrm>
            <a:off x="1120680" y="293760"/>
            <a:ext cx="72406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71520" y="353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Stude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189840" y="1278000"/>
            <a:ext cx="25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nj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Daniel-Radcliffe-How-To-Succeed-In-Business-Without-Really-Trying.jpg"/>
          <p:cNvPicPr/>
          <p:nvPr/>
        </p:nvPicPr>
        <p:blipFill>
          <a:blip r:embed="rId1"/>
          <a:stretch/>
        </p:blipFill>
        <p:spPr>
          <a:xfrm>
            <a:off x="6332400" y="3270240"/>
            <a:ext cx="209232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LN.JPG"/>
          <p:cNvPicPr/>
          <p:nvPr/>
        </p:nvPicPr>
        <p:blipFill>
          <a:blip r:embed="rId2"/>
          <a:stretch/>
        </p:blipFill>
        <p:spPr>
          <a:xfrm>
            <a:off x="3025800" y="1415880"/>
            <a:ext cx="2651040" cy="14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sa.jpg"/>
          <p:cNvPicPr/>
          <p:nvPr/>
        </p:nvPicPr>
        <p:blipFill>
          <a:blip r:embed="rId3"/>
          <a:stretch/>
        </p:blipFill>
        <p:spPr>
          <a:xfrm>
            <a:off x="2924280" y="3044880"/>
            <a:ext cx="2935080" cy="24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tosh.jpg"/>
          <p:cNvPicPr/>
          <p:nvPr/>
        </p:nvPicPr>
        <p:blipFill>
          <a:blip r:embed="rId4"/>
          <a:stretch/>
        </p:blipFill>
        <p:spPr>
          <a:xfrm>
            <a:off x="281160" y="1297080"/>
            <a:ext cx="23619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71520" y="353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Athle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632480" y="1511280"/>
            <a:ext cx="430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vision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7 Different Varsity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tramurals and Club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rength and Conditioning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 New Gym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5803920" y="4487760"/>
            <a:ext cx="2516040" cy="9637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1068480" y="1600200"/>
            <a:ext cx="2782800" cy="2782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71520" y="353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95280" y="1082520"/>
            <a:ext cx="420696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rcadia University College of Glob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lobal Classroom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thways to Study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lobal Connections Experience &amp;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reshman Preview and Transfer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rst Year Study Abroad Experience (FYS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4624560" y="1428840"/>
            <a:ext cx="4343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Two: Apply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pplicati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pplication F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Credenti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dmissions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Dea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41200" y="1096920"/>
            <a:ext cx="8691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Ess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High School/College Tran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AT or ACT sc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Guidance Counselor 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eacher 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Portfolio Review or Acting Audition for BFA 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Admi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Admissions Dead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266840"/>
            <a:ext cx="86486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nuary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ority Admissions Application Deadline for Distinguished Scholarship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ch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ority Admissions Application Deadline for Achievement Award Consideration and Priority Financial Aid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eposit Deadline/National Candidates’ Reply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8:55:46Z</dcterms:created>
  <dc:creator>lapmant</dc:creator>
  <dc:description/>
  <dc:language>en-US</dc:language>
  <cp:lastModifiedBy>Frank</cp:lastModifiedBy>
  <dcterms:modified xsi:type="dcterms:W3CDTF">2014-06-09T16:35:46Z</dcterms:modified>
  <cp:revision>359</cp:revision>
  <dc:subject/>
  <dc:title>Slide 1</dc:title>
</cp:coreProperties>
</file>